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FA3-65AB-46C5-8945-6382CC7CD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85AB-015A-49B6-87D5-3D2D9ABAFB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21A-41AB-4F1B-937B-B3FF050F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93E-7584-409D-AEE2-1B037EB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BB0-4D48-491D-9943-9A8348CB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29B-EB37-45C6-8859-46CBAFF8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5BA-49A9-4820-A338-4221E7A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8F07-096A-4F4A-A49B-F134BDF1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BC3-0F65-42FF-8F7D-8402066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A8B-1FF7-4802-A8C5-8291EB9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6FB4-87B8-42D0-9298-09BAB43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F6A-A82A-438E-8C86-B5DD7DE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C143-C449-4D88-B044-416FF96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02B-7E99-48C2-A96C-CCDFB5B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2C5-02B3-40FA-B556-3FE6A44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0A0-B0C3-451C-8C0A-40D99ED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39FC-4888-4FB7-BF02-33DA0124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C79-5916-4E38-BAD3-2889D77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BD50-FC9D-4938-8AD2-46F51B7B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2B7-4F87-4F33-AA60-6843A3B7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827-3CAF-4A89-ACE0-0EB85E7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195-8D77-4E48-9EEB-AEE807F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3F1-1CE4-4D9F-B5CD-86D8029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AF3-0725-4BD4-9CF1-428CD46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49D-098D-4E66-B4A3-4E1A58B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77A-8F16-42C3-841D-C025D19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A24-3EC8-4B19-87B8-5D0DBD98CE2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017-D55D-41B3-81E0-F5916A1105C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rds.yahoo.com/_ylt=A0geu9gGGLVJeEMB_pNXNyoA;_ylu=X3oDMTBscWN2ZnBjBHNlYwNzYwRjb2xvA2FjMgR2dGlkAw--/SIG=1h0aihtm4/EXP=1236691334/**http:/images.search.yahoo.com/images/view?back=http%3A%2F%2Fsearch.yahoo.com%2Fsearch%3Fei%3DUTF-8%26p%3Dgatorade&amp;w=2232&amp;h=2100&amp;imgurl=www.gwntriathlon.com%2Fimages%2FGatoradeLogo_Litho1.jpg&amp;size=256.8kB&amp;name=GatoradeLogo_Litho1.jpg&amp;rcurl=http%3A%2F%2Fboyerrob.blogspot.com%2F&amp;rurl=http%3A%2F%2Fboyerrob.blogspot.com%2F&amp;p=gatorade&amp;type=jpeg&amp;no=1&amp;tt=86%2C741&amp;oid=59c2f9d1c9757bf0&amp;tit=GatoradeLogo_Litho1.jpg&amp;sigr=10tmp9piu&amp;sigi=11j6n3qs3&amp;sigb=11imbb61l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rds.yahoo.com/_ylt=A0geu7CeGLVJNa4A0rVXNyoA;_ylu=X3oDMTBscWN2ZnBjBHNlYwNzYwRjb2xvA2FjMgR2dGlkAw--/SIG=1mlraaof4/EXP=1236691486/**http:/images.search.yahoo.com/images/view?back=http%3A%2F%2Fsearch.yahoo.com%2Fsearch%3Fei%3DUTF-8%26p%3Dathlete%2Bimage&amp;w=225&amp;h=290&amp;imgurl=a1608.g.akamai.net%2F7%2F1608%2F1365%2F893a9d8274ceac%2Faway.com%2Fimages%2Foutside%2F200509%2Fself-repair-athlete.jpg&amp;size=24.7kB&amp;name=self-repair-athlete.jpg&amp;rcurl=http%3A%2F%2Foutside.away.com%2Foutside%2Fbodywork%2F200509%2Finjury-repair.html&amp;rurl=http%3A%2F%2Foutside.away.com%2Foutside%2Fbodywork%2F200509%2Finjury-repair.html&amp;p=athlete&amp;type=jpeg&amp;no=2&amp;tt=930%2C911&amp;oid=5343b605917ba218&amp;tit=self-repair-athlete.jpg&amp;sigr=122e57ocn&amp;sigi=134rvigi7&amp;sigb=11n0giifh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14360" y="914400"/>
            <a:ext cx="8242200" cy="245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science behind the sport drink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will see what makes a sport good for energy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earn what is in a sport drink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t’s get started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6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et two sport drinks.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ee what makes a sports drink better tha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100px-Spon_PoweradeLogo"/>
          <p:cNvPicPr/>
          <p:nvPr/>
        </p:nvPicPr>
        <p:blipFill>
          <a:blip r:embed="rId3"/>
          <a:stretch/>
        </p:blipFill>
        <p:spPr>
          <a:xfrm>
            <a:off x="1219320" y="48769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ww.gwntriathlon.com/images/GatoradeLogo_Litho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48769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ORT DRINKS HAVE CARBONHYDRATES  &amp; ELECTROLYTES TO REPLACE LOST BODY SALT AND REPLENISH MUSCLE  ENERG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4" descr="a1608.g.akamai.net/7/1608/1365/893a9d8274ceac/away.com/images/outside/200509/self-repair-athlet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419720"/>
            <a:ext cx="1676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508120"/>
            <a:ext cx="7924680" cy="23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fter finding all the things that keep you energized I have evidence that sports drinks are better than water when it comes to getting physica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www.maplejt.com/images/sponsors/Gatorade_l.jpg"/>
          <p:cNvPicPr/>
          <p:nvPr/>
        </p:nvPicPr>
        <p:blipFill>
          <a:blip r:embed="rId3"/>
          <a:stretch/>
        </p:blipFill>
        <p:spPr>
          <a:xfrm>
            <a:off x="2209680" y="4876920"/>
            <a:ext cx="510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7412040" cy="1987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ing water and sports drinks is a simple task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one water only has…just water in it with some other mineral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orts drinks have electrolytes, iron, vitamins, and potassium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PE YOU ENJOYED!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21:13Z</dcterms:created>
  <dc:creator>MNPS Student</dc:creator>
  <dc:description/>
  <dc:language>en-US</dc:language>
  <cp:lastModifiedBy>aselby</cp:lastModifiedBy>
  <dcterms:modified xsi:type="dcterms:W3CDTF">2009-03-09T19:47:13Z</dcterms:modified>
  <cp:revision>6</cp:revision>
  <dc:subject/>
  <dc:title>Sport Drinks !!</dc:title>
</cp:coreProperties>
</file>